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C780-BDDF-4E03-A360-1E3009AB2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EF2D-FEC4-43E4-9548-96A85C2E3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4B1-E083-4540-B110-130E4C32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400-1E05-4A1B-8BD7-E9849F1A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21D-EA22-4160-B6A6-A910BB67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411-B19B-4897-9F47-A2B430FE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5ED-3D33-423B-9E2E-F5E3BE02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9DA-0078-4935-AF51-DD63966A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332-F715-4440-858F-D7146F32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BF7-C426-42AD-A41E-8C8C8D39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B4C-FE52-40CE-9C13-D4D65872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B95-0129-4043-83EE-1234BE5C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381-33ED-4124-8F0F-4D448307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93E-9B3F-4CBF-ABE4-1B188E7B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FF6E-AA7F-4C22-A6B4-01542A43B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hy Humal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hy Humal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hy Humal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4777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ew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en la mañana para pasar todo la dia junt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 cuando y dond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á amigas pues clar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é tal amiga y si yo voy con ustéd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e deporté quieren jugar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al quiere cosa. Amigas mi tengo que ir adios.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ir a jugar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12Z</dcterms:modified>
  <cp:revision>111</cp:revision>
  <dc:subject/>
  <dc:title>Profile</dc:title>
</cp:coreProperties>
</file>